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4F3-0E28-4986-9147-0940C797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192-C035-416A-8492-D544CA61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45D-69BC-4ADC-A0E9-6E8B5CC6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0E7-E915-4D83-B5A3-F6567E01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6E5-E8B0-4271-BDED-4F848DCA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D7E-4223-42C9-A24E-C7B20F98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26E-1D90-4048-8ED8-EAAAA56A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FB6-347C-412E-B25D-F1EDA56F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C81-A2EB-41BE-A567-AEB9A9C4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897-0AEE-4355-84FD-F2375311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C5C-BD82-41C1-B992-046486C3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31E-D09E-4DF0-A892-8D119204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2C8F-EFE4-4B99-A590-56364A7EF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ZAZION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4753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16360" y="2781360"/>
            <a:ext cx="3384360" cy="1511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GLOBAL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716360" y="1699920"/>
            <a:ext cx="0" cy="10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3860640"/>
            <a:ext cx="144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4292640"/>
            <a:ext cx="7164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476280"/>
            <a:ext cx="201600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765000"/>
            <a:ext cx="158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4360" y="404640"/>
            <a:ext cx="180036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ultur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156360" y="2924280"/>
            <a:ext cx="144000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96360" y="2349360"/>
            <a:ext cx="1368360" cy="13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mer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4292640"/>
            <a:ext cx="1368360" cy="11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5516640"/>
            <a:ext cx="136872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 v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807600">
            <a:off x="15480" y="2134800"/>
            <a:ext cx="3133800" cy="1079640"/>
          </a:xfrm>
          <a:prstGeom prst="rightArrow">
            <a:avLst>
              <a:gd name="adj1" fmla="val 50000"/>
              <a:gd name="adj2" fmla="val 725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dei traspo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689800">
            <a:off x="250920" y="4149720"/>
            <a:ext cx="3025800" cy="1366920"/>
          </a:xfrm>
          <a:prstGeom prst="rightArrow">
            <a:avLst>
              <a:gd name="adj1" fmla="val 50000"/>
              <a:gd name="adj2" fmla="val 553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dei me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omunic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47:12Z</dcterms:created>
  <dc:creator>studente</dc:creator>
  <dc:description/>
  <dc:language>en-US</dc:language>
  <cp:lastModifiedBy>studente</cp:lastModifiedBy>
  <dcterms:modified xsi:type="dcterms:W3CDTF">2017-01-09T09:30:51Z</dcterms:modified>
  <cp:revision>6</cp:revision>
  <dc:subject/>
  <dc:title>Diapositiva 1</dc:title>
</cp:coreProperties>
</file>